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5B63-EFF3-42D3-AD06-4A3674774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EED4-E7D7-46A0-8D55-697B9491B98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2B14-33CF-4162-BE7C-141D6E3093D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00EC-6A9C-4813-A3B8-5E6DD0CE011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1292-66CE-45F0-A798-D00B09A83F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235E-5158-40C8-95D9-D83D36728F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F0EC-2F79-4297-B54F-B76CF2F517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9F8D-2767-4198-BF58-04F11709DE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F093-169F-4A6F-962F-D266515701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FBC4-73E8-422F-AA61-22394C2776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8D34-B631-48A4-9CCF-A9FD976C0F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641-68D8-476C-AF3E-804B9DF9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3A4-6228-404E-AB05-73E02F69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3F4-021E-4AA5-AEE1-0083E19D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267-AC73-4F34-BF12-88364211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9EB0-88C8-4623-875D-04643DC1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DEC7-94B5-4621-9439-3BD4E07B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E0DA-8D1C-4452-90CE-76830FF5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25F4-712A-46C5-8F1A-0E0863AC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6612-204D-404E-9828-1BDF26C4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7BF4-D63B-4B43-9551-BF567AD2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B0BB-7B51-47C9-88E0-BB6AC8AD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56C-5C16-4FA2-9920-8C1D105E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AEB2-9870-4871-8071-1E1D3ACB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74FA-A5B0-4337-8AAA-26957C1B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4659-2B5B-469D-BE69-A002608F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E7F4-2C1B-469E-A80B-4712FE92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FE1F-061C-4481-95F1-15EB73B4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17C-693B-4C13-B64D-98C61F18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91D-0E1C-4163-8DA5-7CB8F9C7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493-965A-43FB-8798-74444871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E14-2EF2-4FB7-A395-56F6C905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F13-FE27-4C8C-9540-610D09B0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04B-7F80-4F8A-A390-5E038F54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E5A-5870-4C05-BDA7-6D8852AC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1BFC-A2FA-493F-87BE-EF578C531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93A5-48DC-405B-A6B9-4AC7D9395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panish4teachers.org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panish4teachers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panish4teachers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640720" cy="1219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Los Números del 1.000 a 1.000.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6">
            <a:hlinkClick r:id="rId1"/>
          </p:cNvPr>
          <p:cNvSpPr/>
          <p:nvPr/>
        </p:nvSpPr>
        <p:spPr>
          <a:xfrm>
            <a:off x="6929280" y="632448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-71640" y="1642680"/>
            <a:ext cx="878652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all you do to say any other number i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7072200" y="6324480"/>
            <a:ext cx="21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8172360" cy="1265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ll Other Combinations With 1.000, 2.000, 3.000,…, 9.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642960" y="2286000"/>
            <a:ext cx="15001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.00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.00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3.00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4.000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5.00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6.00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7.00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8.00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9.00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143080" y="2214720"/>
            <a:ext cx="1785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do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r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cuatr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cinco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se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siet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och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nuev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14960" y="3286080"/>
            <a:ext cx="338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y other number you already kn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ight Brace 8"/>
          <p:cNvSpPr/>
          <p:nvPr/>
        </p:nvSpPr>
        <p:spPr>
          <a:xfrm>
            <a:off x="4214880" y="2214720"/>
            <a:ext cx="785880" cy="3214440"/>
          </a:xfrm>
          <a:custGeom>
            <a:avLst/>
            <a:gdLst>
              <a:gd name="textAreaLeft" fmla="*/ 0 w 785880"/>
              <a:gd name="textAreaRight" fmla="*/ 283680 w 785880"/>
              <a:gd name="textAreaTop" fmla="*/ 20160 h 3214440"/>
              <a:gd name="textAreaBottom" fmla="*/ 319428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0"/>
                  <a:pt x="10800" y="440"/>
                </a:cubicBezTo>
                <a:lnTo>
                  <a:pt x="10800" y="10360"/>
                </a:lnTo>
                <a:cubicBezTo>
                  <a:pt x="10800" y="10580"/>
                  <a:pt x="16200" y="10800"/>
                  <a:pt x="21600" y="10800"/>
                </a:cubicBezTo>
                <a:cubicBezTo>
                  <a:pt x="16200" y="10800"/>
                  <a:pt x="10800" y="11020"/>
                  <a:pt x="10800" y="11240"/>
                </a:cubicBezTo>
                <a:lnTo>
                  <a:pt x="10800" y="21160"/>
                </a:lnTo>
                <a:cubicBezTo>
                  <a:pt x="10800" y="2138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071800" y="5742000"/>
            <a:ext cx="464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345 = dos mil trescientos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arenta y cin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ill we do toda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828440"/>
            <a:ext cx="87138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 numbers up to 1.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rn numbers from 1.000, 2.000, 3.000,  to 9.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6">
            <a:hlinkClick r:id="rId1"/>
          </p:cNvPr>
          <p:cNvSpPr/>
          <p:nvPr/>
        </p:nvSpPr>
        <p:spPr>
          <a:xfrm>
            <a:off x="6929280" y="632448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6360" y="115920"/>
            <a:ext cx="5040360" cy="900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view (Repaso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47640" y="1101600"/>
            <a:ext cx="2448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843280" y="1125360"/>
            <a:ext cx="2448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6">
            <a:hlinkClick r:id="rId1"/>
          </p:cNvPr>
          <p:cNvSpPr/>
          <p:nvPr/>
        </p:nvSpPr>
        <p:spPr>
          <a:xfrm>
            <a:off x="6929280" y="632448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572000" y="1125360"/>
            <a:ext cx="2448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705640" y="1116000"/>
            <a:ext cx="27540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e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or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ecisé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ecisie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ecioch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ecinue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36360" y="115920"/>
            <a:ext cx="5040360" cy="900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view (Repaso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95280" y="1197000"/>
            <a:ext cx="2447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-1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11640" y="1125360"/>
            <a:ext cx="2448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ar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ncu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s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ent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v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929280" y="632448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63640" y="152280"/>
            <a:ext cx="5329440" cy="828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view (Repaso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4920" y="1484280"/>
          <a:ext cx="8640720" cy="3657600"/>
        </p:xfrm>
        <a:graphic>
          <a:graphicData uri="http://schemas.openxmlformats.org/drawingml/2006/table">
            <a:tbl>
              <a:tblPr/>
              <a:tblGrid>
                <a:gridCol w="1778040"/>
                <a:gridCol w="3983040"/>
                <a:gridCol w="2879640"/>
              </a:tblGrid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-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veint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núm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int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-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reinta 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+ núm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-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cuarenta 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+ núm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renta 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se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-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noventa 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+ núm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n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AutoShape 46"/>
          <p:cNvSpPr/>
          <p:nvPr/>
        </p:nvSpPr>
        <p:spPr>
          <a:xfrm>
            <a:off x="5076720" y="5229360"/>
            <a:ext cx="3743280" cy="1368360"/>
          </a:xfrm>
          <a:prstGeom prst="upArrowCallout">
            <a:avLst>
              <a:gd name="adj1" fmla="val 68396"/>
              <a:gd name="adj2" fmla="val 68390"/>
              <a:gd name="adj3" fmla="val 1666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47"/>
          <p:cNvSpPr/>
          <p:nvPr/>
        </p:nvSpPr>
        <p:spPr>
          <a:xfrm>
            <a:off x="5364000" y="580536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ice: the numbers that only form one word are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48"/>
          <p:cNvSpPr/>
          <p:nvPr/>
        </p:nvSpPr>
        <p:spPr>
          <a:xfrm>
            <a:off x="2195640" y="2276640"/>
            <a:ext cx="30970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9"/>
          <p:cNvSpPr/>
          <p:nvPr/>
        </p:nvSpPr>
        <p:spPr>
          <a:xfrm>
            <a:off x="2124000" y="2997360"/>
            <a:ext cx="331164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50"/>
          <p:cNvSpPr/>
          <p:nvPr/>
        </p:nvSpPr>
        <p:spPr>
          <a:xfrm>
            <a:off x="1979640" y="3789360"/>
            <a:ext cx="3672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51"/>
          <p:cNvSpPr/>
          <p:nvPr/>
        </p:nvSpPr>
        <p:spPr>
          <a:xfrm>
            <a:off x="2050920" y="4508640"/>
            <a:ext cx="360072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52"/>
          <p:cNvSpPr/>
          <p:nvPr/>
        </p:nvSpPr>
        <p:spPr>
          <a:xfrm>
            <a:off x="6300720" y="2276640"/>
            <a:ext cx="1871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53"/>
          <p:cNvSpPr/>
          <p:nvPr/>
        </p:nvSpPr>
        <p:spPr>
          <a:xfrm>
            <a:off x="5940360" y="2997360"/>
            <a:ext cx="259236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4"/>
          <p:cNvSpPr/>
          <p:nvPr/>
        </p:nvSpPr>
        <p:spPr>
          <a:xfrm>
            <a:off x="5867280" y="3789360"/>
            <a:ext cx="273708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55"/>
          <p:cNvSpPr/>
          <p:nvPr/>
        </p:nvSpPr>
        <p:spPr>
          <a:xfrm>
            <a:off x="5867280" y="4508640"/>
            <a:ext cx="273708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285920" y="6396120"/>
            <a:ext cx="21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201600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00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000" y="259920"/>
            <a:ext cx="7667640" cy="908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200, 300, …, 900 (Repaso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5148360" y="2060640"/>
            <a:ext cx="3384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c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4067280" y="3213000"/>
            <a:ext cx="1657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6"/>
          <p:cNvSpPr/>
          <p:nvPr/>
        </p:nvSpPr>
        <p:spPr>
          <a:xfrm flipV="1">
            <a:off x="4427640" y="4220640"/>
            <a:ext cx="1224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7"/>
          <p:cNvSpPr/>
          <p:nvPr/>
        </p:nvSpPr>
        <p:spPr>
          <a:xfrm flipV="1">
            <a:off x="4427640" y="4292640"/>
            <a:ext cx="1224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5796000" y="3860640"/>
            <a:ext cx="25923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 careful with these because they are exceptions!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5148360" y="2530440"/>
            <a:ext cx="3384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er + cien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1908000" y="1284120"/>
            <a:ext cx="324036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dff"/>
                </a:solidFill>
                <a:latin typeface="Comic Sans MS"/>
              </a:rPr>
              <a:t>dos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cien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dff"/>
                </a:solidFill>
                <a:latin typeface="Comic Sans MS"/>
              </a:rPr>
              <a:t>tres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cien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dff"/>
                </a:solidFill>
                <a:latin typeface="Comic Sans MS"/>
              </a:rPr>
              <a:t>cuatro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cien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quinien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dff"/>
                </a:solidFill>
                <a:latin typeface="Comic Sans MS"/>
              </a:rPr>
              <a:t>seis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cien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Comic Sans MS"/>
              </a:rPr>
              <a:t>sete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ien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dff"/>
                </a:solidFill>
                <a:latin typeface="Comic Sans MS"/>
              </a:rPr>
              <a:t>ocho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cien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Comic Sans MS"/>
              </a:rPr>
              <a:t>nove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ien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2484360" y="5877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1000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2967120" y="5829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3419640" y="58737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= Mi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6929280" y="632448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63640" y="152280"/>
            <a:ext cx="5329440" cy="828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view (Repaso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4920" y="1484280"/>
          <a:ext cx="8929800" cy="3657600"/>
        </p:xfrm>
        <a:graphic>
          <a:graphicData uri="http://schemas.openxmlformats.org/drawingml/2006/table">
            <a:tbl>
              <a:tblPr/>
              <a:tblGrid>
                <a:gridCol w="1838160"/>
                <a:gridCol w="4116600"/>
                <a:gridCol w="2975040"/>
              </a:tblGrid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1-1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ciento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núm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-2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oscient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+ núm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1-3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rescient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+ núm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se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1-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novecient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+ núm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cientos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nue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AutoShape 29"/>
          <p:cNvSpPr/>
          <p:nvPr/>
        </p:nvSpPr>
        <p:spPr>
          <a:xfrm>
            <a:off x="5076720" y="5229360"/>
            <a:ext cx="3743280" cy="1368360"/>
          </a:xfrm>
          <a:prstGeom prst="upArrowCallout">
            <a:avLst>
              <a:gd name="adj1" fmla="val 68396"/>
              <a:gd name="adj2" fmla="val 68390"/>
              <a:gd name="adj3" fmla="val 1666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5364000" y="580536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ember: ciento is the exce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1"/>
          <p:cNvSpPr/>
          <p:nvPr/>
        </p:nvSpPr>
        <p:spPr>
          <a:xfrm>
            <a:off x="2268360" y="2276640"/>
            <a:ext cx="30974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32"/>
          <p:cNvSpPr/>
          <p:nvPr/>
        </p:nvSpPr>
        <p:spPr>
          <a:xfrm>
            <a:off x="2050920" y="2997360"/>
            <a:ext cx="3600720" cy="50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33"/>
          <p:cNvSpPr/>
          <p:nvPr/>
        </p:nvSpPr>
        <p:spPr>
          <a:xfrm>
            <a:off x="1908000" y="3716280"/>
            <a:ext cx="381636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1979640" y="4508640"/>
            <a:ext cx="374472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6084720" y="4508640"/>
            <a:ext cx="280836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36"/>
          <p:cNvSpPr/>
          <p:nvPr/>
        </p:nvSpPr>
        <p:spPr>
          <a:xfrm>
            <a:off x="6083280" y="3716280"/>
            <a:ext cx="273672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7"/>
          <p:cNvSpPr/>
          <p:nvPr/>
        </p:nvSpPr>
        <p:spPr>
          <a:xfrm>
            <a:off x="6084720" y="2997360"/>
            <a:ext cx="2808360" cy="50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38"/>
          <p:cNvSpPr/>
          <p:nvPr/>
        </p:nvSpPr>
        <p:spPr>
          <a:xfrm>
            <a:off x="6083280" y="2276640"/>
            <a:ext cx="273672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1285920" y="6396120"/>
            <a:ext cx="21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280" y="333360"/>
            <a:ext cx="8172720" cy="907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.000, 2.000, 3.000, …, 9.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3534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learn the numbers from 1.000- 9.999, we must first learn the ones ending in tw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ERO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which ones??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6929280" y="632448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42560" y="1341000"/>
            <a:ext cx="259236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000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.000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-360" y="189000"/>
            <a:ext cx="8172360" cy="907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.000, 2.000, 3.000,…, 9.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5148360" y="2060640"/>
            <a:ext cx="3384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c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5148360" y="2530440"/>
            <a:ext cx="3384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er + 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2916360" y="1197000"/>
            <a:ext cx="324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do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tr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cuatr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cinco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se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siet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oc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nueve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 mill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6929280" y="632448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8:44:45Z</dcterms:created>
  <dc:creator>Spanish4Teachers.org</dc:creator>
  <dc:description/>
  <dc:language>en-US</dc:language>
  <cp:lastModifiedBy>Jessica Kaplan</cp:lastModifiedBy>
  <dcterms:modified xsi:type="dcterms:W3CDTF">2015-04-28T19:59:08Z</dcterms:modified>
  <cp:revision>50</cp:revision>
  <dc:subject>Spanish</dc:subject>
  <dc:title>Los Números en Español</dc:title>
</cp:coreProperties>
</file>